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 type="ftr" idx="74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6"/>
          <p:cNvSpPr>
            <a:spLocks noGrp="1"/>
          </p:cNvSpPr>
          <p:nvPr>
            <p:ph type="sldNum" idx="75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FD25-E28B-43EE-9B87-5FD17C6BD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5617-E296-44B1-8A40-4041B8E42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17B3-C3F9-468A-A074-1C4FA87E9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2402-9254-4BEC-B8A8-A1B5D6E2A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3AC2-3953-45EE-B2A0-E443E83E5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56FD-EB3A-428E-B5FE-FF2A4585F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E712-C1E6-4F88-BC6B-F3D37FEC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5F23-2348-44FF-979C-056CB594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A6B3C-465A-495E-8C16-0781FE22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4FDE3C-B043-4F63-83E7-CAC4942B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37B8C2-A5DB-4B3F-9B82-1B246B0B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458231-4F15-4A63-B8F9-E1D27FA2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19CD6-4DDF-4B56-93B5-EC9E7B13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D3AB9F-F805-4A3C-B3F3-E59408CD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F72246-5D02-434E-9C34-3CB7FD8E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264D5-6203-4066-A983-E954FA5C1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F6CDF4-9FAA-4D68-8837-E688A7BF1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C16FB2-FF70-4376-A859-7FD4098BD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9153-35F1-4D08-A056-AD853F581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66E89-16F9-4175-8A19-3E49F5B8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967BA9-FCA6-43CB-91B7-9A2AC263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4932F1-F63E-440C-A67E-D82E8CB9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B44C30-B32F-4CCF-96E9-4C495672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8EA9E-48C9-4B74-B32B-5A44EE70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67271A-BB9D-4361-997C-0C1B376C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12FF9-B622-46D6-8B63-69711767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606759-B60A-4BD1-82A3-6BFCF6F8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65CDAA-3DA0-41C0-9A93-0FF00A4A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21F52-BF5A-44DC-8009-E40EC6ABF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6889-D6FA-49FE-A52E-472B7AF74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C11872-D092-4E1D-9A62-EB67EA288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04C2B-12BA-45F1-AFE1-6F209CF3D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672D8-8E7C-4B8D-BBA8-8AA74701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D3D8E-8A4E-4E43-A1EA-6AF4DC8C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35BBC-7894-4F80-BC9C-F6521956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7B867-8173-4EFA-B3AD-7F7E30DF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69844-60A2-42EC-8DB4-711E9283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C7409-D9B1-49AE-AEA8-22163D13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5A00C-2C0B-46F6-9967-3EF17CE5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A3935-AB66-4E8D-96BA-A3B60B90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467E-CDEF-426A-88FF-06C0227D7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C12A6-F44A-4361-8C69-1465E951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12835-B945-4AB1-9F64-B8DF05A42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1ECA2-FDBF-4BD2-B41D-5D9E582AC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4CBD8D-A65A-4FC5-BB7D-E648C4326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4CA921-94BB-44CE-B068-47B4EE29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241E13-0A7F-44F3-BB60-CE324FBF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4F9F17-7D28-4F5F-9F47-B92EE585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B98C80-33C2-42A7-A9A2-F381A7AD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47326D-916E-46CD-92ED-9DF2D946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035E8F-6B62-4C06-9C7E-D0B93C66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2425-68C9-42EC-B0AC-43A1BF45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85278-DED0-478B-99EC-19683BE2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5777E5-35B6-4905-84FB-59D73357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95B553-F184-44BB-8948-61BDE58B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6EE12F-1C9D-4B11-8BEF-3934D3509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A04C45-EF2F-4659-AEA6-D83683133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31A7F5-D75F-46D9-8D88-25F8941BB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186FF6-4882-497F-A9F8-99215D9A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7174E9-6E72-4015-85C2-494498FA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00F61A-1361-4330-83CF-3AEDAE11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2AD168-BEBD-4F2E-99D1-CD640390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C0D6-875F-4ECC-B186-DBAA3530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DE75B5-3E50-46AB-A4AE-6C7D1DF3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3A417B-F68A-44F3-BC8C-48FCDB16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1FA7A4-FB97-4927-88B8-56B5D4BB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FED030-FD59-42DF-82F5-A526D0CB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A5B65D-D068-40D2-AA07-1659634A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63C440-6D86-4E5A-8947-BE0E666DE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536917-7303-4F21-9D5D-B9F408E73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1746A0-B498-4DC4-BC32-44CD2CA43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214A4B-C9DF-4A07-9E2B-394142F1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7468AC-3D18-49BB-9DA2-B64BB4E3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57BE-FE50-4E64-9D07-7553AE88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65DB1F-A737-4A79-BA58-67ADFE6B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5DB6FF-E13C-4863-AD50-A5E475DF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A77010-9437-4DF0-97D3-1EBFB847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F40E4D-4618-48A9-8385-B68BB054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ED00C4-A1AA-4B72-9DE4-279D7E71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2E6B0F-B92A-4FCC-91DC-055DBE10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1E0662-91BF-4732-9629-8A7D430C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B342FA-6CFD-41EA-BC37-CB37DBCFD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24FDCE-E5B6-4321-BD06-7D9855727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51E063E-E7D2-4912-806A-61C93140A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A9BF-4C16-455A-8195-DD6F6490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ACCAE37-90C3-47C0-A29D-AC3FD899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C4E922F-5541-42C9-9CC5-1A5A0787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8C4BEEF-C4F7-4DC7-9B59-92088F32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AD38AB8-A609-4B7D-BBC8-0FF8DE09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E79229D-3DE1-4209-B58A-11D8E1AA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3E25F81-C984-4982-B4F1-5BEAA7AF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E0FEE82-7C40-41F1-8144-976A5EB1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72BCCEA-A335-4261-9F61-89A4DC13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0A18061-13CE-42C7-9858-6962B4FF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88DEB12-0F47-46B7-B42F-A976D93A2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CD3A-810E-4296-84BE-B080B5C3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0F32EE8-1488-4510-8DD3-964E96DB1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D55358-2B4A-415A-847E-C862536EF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AD2FD1-FDE0-470E-8491-EA4BAD08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B38069-8BB2-450B-BF0F-EBFE383D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FDC449-97EE-4285-B386-81889582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0267AC-FB3F-4691-95D5-E58FF5D6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CC3C2B-736D-41D8-BD6D-8098538E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8A2E49-D3DC-4938-B6CD-4F243634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592D4A-3933-4064-A47F-ABFD81CE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F9CAB1-5D28-4EE5-B1FF-4E605A3A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5B11-3DC0-4003-A205-528CBBCC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BF9E59-7E9D-4B49-844D-C633248A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0C01C9-FB00-4324-8B5C-CE374B372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6E016D-501F-4903-A257-28F97D01D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6F658E-F1C2-4075-97E8-5998468A9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309F6D-0947-490B-94AF-6087031A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168F33-259F-4F56-A783-AA880883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ECC995-4B4C-4FCC-BA07-4868D3F5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43BCCA-8AD9-4967-9F08-ADD59960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69982A-F212-401B-9675-BA1AD194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7C532E-7A5F-4704-A2C9-D2312302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3381-3D98-4814-9235-06F4BE63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87D1-1AB1-4FC6-880E-7AA17065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0D7EF6-7201-44B6-85E1-7FA705DA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D750DB-85AB-43CC-996D-6AC8105B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8A9EBD-1FA7-418C-9FA1-E78ECEA7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308539-546A-48DA-BBB4-55600173B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F1B06F-E81C-41FC-8AC3-5DDC6AB87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FC1CC3-048F-4486-81EA-B5D652AE7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96DD63-0985-408F-9296-F66F4C2F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6676F4-9553-4ECD-A631-EC416949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8A4827-C3EF-41E4-AD4B-9CECD021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B1C389-0333-44C3-8344-1169ECD0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6C55-A102-4840-B1EB-0273C8A1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6BAB27-7EC6-44D0-ADB3-5AD16C70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AC19FE-5A5F-4CAD-89C3-4EAAA66F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FD05E6-B9CF-46E2-BB27-0961B0E2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0A09E1-25B0-4307-B8E0-02B26C5A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31431B-8AD7-4F1A-B5DE-638EAE37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F132FF-8ADF-4842-8097-4DEF7C64B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455C95-7014-48D3-AE7C-518CEB3D7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96DDC20-C417-435B-A448-9D72309B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3E6F6D9-C5F3-4CD0-B776-9D90AB69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317B4CF-8679-4282-93C8-A2B05844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52F3-39A4-4B7D-8B34-A30612CA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C71F631-A47C-4A75-A766-6CD93C51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734B474-3083-41D9-8D43-E232E7C5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CF189A9-ACC4-48F4-9BF5-1C6A9FF0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F8AFA27-9C68-4061-9229-F31A5C22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D449E5D-6131-4015-A3EE-4CEB5A48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D336511-F655-4AD8-9FF7-1EFF3B47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CE3F9E9-CE67-47C5-85D2-2A8E6860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5B7EF77-7F4F-4630-8CE2-39535FD02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8FB11A9-55A0-479E-80CC-1A0134457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9DE53B-E1BE-4474-9B74-14F819C0E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F67F-EF20-4D76-9AFB-3687B306E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06A104-779D-4AF0-88B5-EF4AA696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D10602-9EE9-497F-829D-F446A6E5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7EBC68-1A09-4A53-AD99-397FAA22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FF8BF2-B80F-42C3-854A-AC52F4F8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EB4C7D-F8AE-4DF1-A145-1CE928AB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9DB038-3DC2-4EF9-89EC-68FA50E9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543807-E555-401E-8CFB-7A69333C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84A4FE-9274-41FB-88B2-F5B8C64D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80C043-FF71-4107-AB03-FA9E6D5C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86E971-325C-4895-8E07-EDC1EB954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B9FB-DC00-45CC-B175-02B228AA2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621910-7084-4225-80AC-EBF93317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1A0227F-1D48-44F4-A254-B2A6A9437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86497F5-8EE8-4765-92E8-74646E91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EA88295-C291-42B6-8558-0DF991F1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88408F2-D02F-4C9F-A8E4-954BBB47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D73AAA0-4832-47B1-9560-5BF38D71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3C4663C-460B-4D53-AC40-74BEB1F0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E6D7436-0CEE-4476-9EB9-091B5920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DC46F1F-63D8-44BA-AB11-15DE9AE5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BF1985A-0585-4578-A146-2405E9B8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BA2A5-57EE-4422-B657-AF8BFA24B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A117C35-7873-42C2-8B4C-46E53CBE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CF5E71A-B6B1-4051-8DFB-01D9C75A1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81A03FD-556B-4BAE-A693-83142FA2F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944A314-4DBB-40D8-A9B4-8626BAD13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C5666F1-5560-4FED-BFDA-EF545E21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ED47AE2-F3C4-4F69-AA1A-5AFA13FE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58958EA-2081-4DA8-82A9-1AB3D1C7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045740E-E34C-4B82-A6F3-EC8EEA42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6D4C8F6-B1D4-43FD-81D0-D5ADADD8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1664DB9-C870-417A-8E9C-C5F69DC1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05170-FA3E-4600-B266-5EADEBBD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2910F68-F70E-4614-9E26-83085DD2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9071ED8-437B-4654-9576-CACA7C75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72D9C78-100E-4C9A-A213-0A96B195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258AC25-EC76-44F2-909C-D230AF66E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6358C4B-1E65-4D07-B9D6-28BBCC291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273CDF-95DF-4142-A304-9386FA1D1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8C2AE6-3538-4FA0-8EA4-CA94139D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9B0B42-2EDF-4835-8BC4-E3B61B26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C78824-D4E6-414E-B382-C77E98DC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D3E8C0-F77A-4F15-AF73-11CBF409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71892-396A-4B01-B19E-1A937040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1D257E-5594-4337-BF5A-DCA226B9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CD096E-7307-4757-A372-AC4A821F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6AB37F-91A8-42A5-AB73-F905F6B1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94D962-F2CA-44E5-AE50-BBC49885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50BD54-6ADB-4239-813D-11C441F3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916A11-6296-4516-9307-4A28EE918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496590-322B-4827-AD37-5D6E8AC8F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D98ADB-C90E-46BB-8C28-519949BCD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EBC108-125F-42AA-9474-A85DC127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CDD851-688A-4DBD-A33F-9AC6F47B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463CB-12AD-4786-932D-1431F363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B306D1-F893-447A-9283-AD5DAC97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3D2D80-178D-41F5-8194-1888249F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FBC07F-91B3-49C3-8DA5-7921BE74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6D37A8-A1E6-4050-B852-7EFD7353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6EE111-9DAF-4DCE-AEE0-D98029AA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0DC235-D6A4-4143-9FDC-E722EBEC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144ECA-7B70-458E-8B36-9C3AEA3B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02B073-FE11-4E19-936D-A761D5BC1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64067C-CE89-4F75-AD5E-5608940BE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8E557-9CBD-47C5-A2E1-0CB7B0FE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48C4-5859-4D39-9823-F1770AC6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8E306-4B25-4095-AD52-55862C84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8634E-1510-433E-9BF9-A6EDF1C2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AD44B-5343-48E9-A53A-3318D730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A347C-D958-4B44-942E-924917A7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C318F-5E25-44C7-8BFF-F53F4871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3DC06-DA2A-4CED-9E12-C26B48B53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B9D0E-E820-463B-A795-9FE67767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C5136-3A1F-49EE-81D8-5DF6F462A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74B07-A173-4C54-B202-218DB7EB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1D2E7-7B8B-48F1-9E9C-787C906F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BE40-82D7-4361-8858-F854A81C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74EAD-17C2-4C01-A848-5E679C59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5CE49-B4C9-412F-B4F6-3DB56956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986B1-3463-431F-911E-1D22F3E9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C2EAF-99B3-4F91-B785-11027590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C29C7-AFAC-4810-885C-ED7A3FF3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56E4B-E679-4108-AFEB-37AB03AE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B0BE7-D52A-453A-869F-F9E4A315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6D3FD-E3C4-4195-ABC2-5963153C6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7B69B-051E-43D9-A7B6-09CEE0772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C9CBB-7AED-433B-90A0-65DC79E4D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79BC-70A7-461D-A680-3104F519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2E340-A7BA-46EC-9FD0-9E8F0D79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5AAEB-B225-48A1-8AD9-59A586C5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A5B4D-1C7A-4301-9BC2-FA2A490E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B60D3-EA01-4DAC-B2E7-A84FD711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019B1-B9EC-4308-8FBD-8DE7D43E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404C4-19B1-4AB3-ACF7-1A0CE644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2480E-57BC-4379-B96D-00CB567B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84A69-2FAC-41EE-A810-3540D64A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1AEA3-80DB-4962-BB83-007BE1FE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F13B3-3371-4359-A285-DF0BC9322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82A7-48D1-4884-BEAE-28657837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D63CB-05E1-483A-B207-6F6C5A020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BEAD9-44AC-4D21-A5E5-1C9D90156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C4248-A1D3-4481-B812-C049D559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7A184-1210-4A96-9B00-F8CA6434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16BFF-5AF5-4477-92F3-C538FCD9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14155-6381-46F8-B0A9-CD8BE9E5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EF300-79E3-4130-801C-577ACB4C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AC6C7-88B3-48BB-AA57-5C9589E2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C32D3-56B4-4353-ADEB-5F5D94F7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730DC-5E43-464B-AE83-3076A285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E4D4-74AB-4D61-BB22-762CB69E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A041D-9395-4633-B5C1-1A3EABA4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4873F-70EF-45B1-8853-61C6A6C23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D7B37-CC7C-4A55-B980-765D16373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59BF8-583D-4BEA-86FB-8DE2F11CE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BB0A2-A182-4D10-8647-86F7CB1A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BE45F-8289-49A8-A7FF-8FB3DDAA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C9FE1-1D01-4962-B721-0B93C201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FBD37-A444-44C7-9F90-918D9683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CF6B2-9202-40F0-BE8A-26A43359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22FDB-FD7E-4045-8F30-688FD5CF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F969-A870-4598-B180-FB06E707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D524E-7DAD-41D6-A729-1D48558D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BEA68-F9F6-434E-B953-E586F726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221A3-F480-4DBA-A406-1203FCC2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27A4E-7D68-4B85-91A0-BEDBE2F31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94F05-B22D-436F-83BF-58608442D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1C757-BF15-46A5-B5A7-9AC04F953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F98E4-52EC-4645-AB2F-0BD7F130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4C644-D6BD-40EC-8182-2E760D73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B9664-3337-4364-A491-DDA6F4F7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53D49-F89D-48B2-9A7D-C10602D4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6FCD-D180-4CE1-8201-CC3F0B58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FFC87-7D5E-4A67-888E-826ABD79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D616A-68CA-4BB2-BB9C-8138F9DC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D15AD-2728-4A0E-9CF8-E127E417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D5358-1D71-4864-BB0C-BC5BD24E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974F4-1419-423A-B4FF-71748B71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3AA10-5B4D-470A-ABAB-2F65B3E46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B0ABF-43B1-4503-A818-F9A209D30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8BEE9B-6C5D-4F4D-8D1E-F1F7062A7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07709D-3F6F-446E-AEB4-09C61CC6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47B93-3695-450C-97F1-8FBF6C9D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897B-B00B-4DB2-923C-4CBDFCBF9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32FA-99EA-4427-9BAA-885D22583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797B-E6C1-450B-83A1-EFF7B6D02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E816-BC2B-4C66-9D8F-0101C28EF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F756-E907-4919-9760-38E23548C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40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41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42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EA89-66AB-4E9F-A432-07E0026B22D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4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sldNum" idx="4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33A4-704B-450A-8B68-17DB57B051B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ftr" idx="4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6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7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8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EB90-4CEB-4759-92B5-17A997451B8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4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5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5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0AFD-82C0-435F-AFA2-A7C308C4880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5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5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5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9782-CAF7-4D43-890D-FD89C5B11AD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dt" idx="5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sldNum" idx="5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367B-6607-484A-AF70-93A8FC93783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 type="ftr" idx="5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0FF8-7649-47F7-9644-16FDE70CDA1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 type="dt" idx="5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 type="ftr" idx="5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 type="sldNum" idx="6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4A37-0E14-4B6C-AC4B-DC40ED42F0A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 type="dt" idx="6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 type="sldNum" idx="6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8DC9-47E7-4E37-A8A7-F0734004E8A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 type="ftr" idx="6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6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sldNum" idx="6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60D0-BDAD-48BE-94DE-CB9677473B3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ftr" idx="6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 type="dt" idx="6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 type="ftr" idx="6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 type="sldNum" idx="6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148F-08F8-485F-A5B4-7C9061369CA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3DA4-A2EF-4D0B-A2CE-420EA024BD0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340D-F8DE-4ED0-8FB3-C8D0F7BFC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DAEB-A0F4-48B8-BAEF-2B2CAFBB8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AA96-A646-48DA-9E2A-8EC6309F8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50E2-45EC-4251-AAB1-AECC6B1BC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9B80-2114-4421-9973-B0705E5C2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AE8A-0A3E-4E0F-BDBB-C099D7439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10AB-8D1A-4A09-B896-063A6E38F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9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9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9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93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JUNIOR VOCABULAR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Roots List # 15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(4 WORD PARTS TODAY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4678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QUADR, QUADRI, QUADRU, QUAR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228240" y="167616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Fou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 fourth par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Four time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Quadran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Quadrennia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Quadricycl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Quarte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Quadrupe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Quadrupl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Quarte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Quadriplegic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090" name="Picture 6" descr="qiadd.jpg"/>
          <p:cNvPicPr/>
          <p:nvPr/>
        </p:nvPicPr>
        <p:blipFill>
          <a:blip r:embed="rId1"/>
          <a:stretch/>
        </p:blipFill>
        <p:spPr>
          <a:xfrm>
            <a:off x="3048120" y="3733920"/>
            <a:ext cx="1838160" cy="163836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7" descr="quad.jpg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44792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8" descr="quartet.jpg"/>
          <p:cNvPicPr/>
          <p:nvPr/>
        </p:nvPicPr>
        <p:blipFill>
          <a:blip r:embed="rId3"/>
          <a:stretch/>
        </p:blipFill>
        <p:spPr>
          <a:xfrm>
            <a:off x="304920" y="3352680"/>
            <a:ext cx="2038320" cy="177192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9" descr="quartett.jpg"/>
          <p:cNvPicPr/>
          <p:nvPr/>
        </p:nvPicPr>
        <p:blipFill>
          <a:blip r:embed="rId4"/>
          <a:stretch/>
        </p:blipFill>
        <p:spPr>
          <a:xfrm>
            <a:off x="304920" y="5334120"/>
            <a:ext cx="2514600" cy="121896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0" descr="quadr.jpg"/>
          <p:cNvPicPr/>
          <p:nvPr/>
        </p:nvPicPr>
        <p:blipFill>
          <a:blip r:embed="rId5"/>
          <a:stretch/>
        </p:blipFill>
        <p:spPr>
          <a:xfrm>
            <a:off x="5715000" y="5791320"/>
            <a:ext cx="2209680" cy="106668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9" descr="quarter.jpg"/>
          <p:cNvPicPr/>
          <p:nvPr/>
        </p:nvPicPr>
        <p:blipFill>
          <a:blip r:embed="rId6"/>
          <a:stretch/>
        </p:blipFill>
        <p:spPr>
          <a:xfrm>
            <a:off x="3581280" y="2057400"/>
            <a:ext cx="1133640" cy="1123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QUINQU, QUINQUE, QUINT, QUINTU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38088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Fiv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 fifth par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Five time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4952520" y="1599840"/>
            <a:ext cx="3505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Quinquangula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Quintet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et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= small; a group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Quintilli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1,000,000,000,000,000,000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Quintuplet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plet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= thickness; to fold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099" name="Picture 6" descr="quina.jpg"/>
          <p:cNvPicPr/>
          <p:nvPr/>
        </p:nvPicPr>
        <p:blipFill>
          <a:blip r:embed="rId1"/>
          <a:stretch/>
        </p:blipFill>
        <p:spPr>
          <a:xfrm>
            <a:off x="0" y="4495680"/>
            <a:ext cx="3276720" cy="236232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5" descr="qunitet.jpg"/>
          <p:cNvPicPr/>
          <p:nvPr/>
        </p:nvPicPr>
        <p:blipFill>
          <a:blip r:embed="rId2"/>
          <a:stretch/>
        </p:blipFill>
        <p:spPr>
          <a:xfrm>
            <a:off x="2819520" y="2438280"/>
            <a:ext cx="2286000" cy="2210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E-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151920" y="1980720"/>
            <a:ext cx="3814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gai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Back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4038480" y="160020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duce (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duc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= to lead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incarn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nov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vive (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viv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= life; living; aliv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rreversib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cycle (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ycl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= circle or wheel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ver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104" name="Picture 6" descr="recycle.jpg"/>
          <p:cNvPicPr/>
          <p:nvPr/>
        </p:nvPicPr>
        <p:blipFill>
          <a:blip r:embed="rId1"/>
          <a:stretch/>
        </p:blipFill>
        <p:spPr>
          <a:xfrm>
            <a:off x="3581280" y="457200"/>
            <a:ext cx="1171800" cy="117144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7" descr="CP607MCA0U2NW2CACH3RO3CAKC2OEHCAXWA6JJCATVP5Z1CAH9DF3DCAUPR6FVCAL7CAJBCA5A8UCJCA8K64KACA673EO7CANJQRRVCAYQIYUOCARCM5A5CAUNLWMRCA3A7L7JCA6NBC9DCA3982AW.jpg"/>
          <p:cNvPicPr/>
          <p:nvPr/>
        </p:nvPicPr>
        <p:blipFill>
          <a:blip r:embed="rId2"/>
          <a:stretch/>
        </p:blipFill>
        <p:spPr>
          <a:xfrm>
            <a:off x="304920" y="3352680"/>
            <a:ext cx="3200400" cy="327672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6" descr="reverse.jpg"/>
          <p:cNvPicPr/>
          <p:nvPr/>
        </p:nvPicPr>
        <p:blipFill>
          <a:blip r:embed="rId3"/>
          <a:stretch/>
        </p:blipFill>
        <p:spPr>
          <a:xfrm>
            <a:off x="6629400" y="152280"/>
            <a:ext cx="2362320" cy="175284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7" descr="renovate.jpg"/>
          <p:cNvPicPr/>
          <p:nvPr/>
        </p:nvPicPr>
        <p:blipFill>
          <a:blip r:embed="rId4"/>
          <a:stretch/>
        </p:blipFill>
        <p:spPr>
          <a:xfrm>
            <a:off x="6858000" y="5257800"/>
            <a:ext cx="1676520" cy="838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UP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380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o break or bus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4419720" y="1599840"/>
            <a:ext cx="38145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brup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Corrupt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cor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= prefix meaning with; together; jointly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Interrup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Ruptur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Erup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111" name="Picture 7" descr="rupt.jpg"/>
          <p:cNvPicPr/>
          <p:nvPr/>
        </p:nvPicPr>
        <p:blipFill>
          <a:blip r:embed="rId1"/>
          <a:stretch/>
        </p:blipFill>
        <p:spPr>
          <a:xfrm>
            <a:off x="7238880" y="5105520"/>
            <a:ext cx="1676520" cy="160020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8" descr="interr.jpg"/>
          <p:cNvPicPr/>
          <p:nvPr/>
        </p:nvPicPr>
        <p:blipFill>
          <a:blip r:embed="rId2"/>
          <a:stretch/>
        </p:blipFill>
        <p:spPr>
          <a:xfrm>
            <a:off x="380880" y="3809880"/>
            <a:ext cx="3124440" cy="251460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9" descr="erupt.jpg"/>
          <p:cNvPicPr/>
          <p:nvPr/>
        </p:nvPicPr>
        <p:blipFill>
          <a:blip r:embed="rId3"/>
          <a:stretch/>
        </p:blipFill>
        <p:spPr>
          <a:xfrm>
            <a:off x="6858000" y="0"/>
            <a:ext cx="1943280" cy="1295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17:47:44Z</dcterms:created>
  <dc:creator>James Mitchell</dc:creator>
  <dc:description/>
  <dc:language>en-US</dc:language>
  <cp:lastModifiedBy>teacher</cp:lastModifiedBy>
  <dcterms:modified xsi:type="dcterms:W3CDTF">2009-05-04T20:50:18Z</dcterms:modified>
  <cp:revision>30</cp:revision>
  <dc:subject/>
  <dc:title>Roots List #1</dc:title>
</cp:coreProperties>
</file>